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13F-AEB8-44E2-A5F3-2AFB8BBF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A2E-DEBE-4EFA-8860-7674725C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4F7D-8B0E-46AC-A387-A13E9FE64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32F7-E5F3-412A-B5F8-C8C567399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4BCBD-C0C9-4F7D-B033-1D0BAE4A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AFC6-7028-4366-90E1-F3A793A7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0B45-6980-4BE0-8283-EE850F7A5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07A4C-D278-4F2D-B6E2-E608F1C0C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CF77-AC58-4D7D-8DBF-88802D69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5960E-7431-4076-A103-25B9625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D0C4-17F5-43A2-A7FC-FE00BA5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DFA6-E972-429D-9274-044E51E6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6B58-BC80-4B4F-A757-F2EDEA83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D4A8-3C8D-494C-BCAA-1D715DDC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A8EE-3844-4B85-8B59-4552D04F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4D8C-CA92-4CCE-83F5-B81BE4A04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3916-5397-46D3-A9DA-28B012C61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C03A-A5D1-42F5-A446-2B851C71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FDF7-702C-43FB-A9CA-DD284409D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CCA9-52E2-4688-901A-F8175239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6715-2B93-4097-8D3B-D11F47B58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F7FF-4E11-4CEA-BE77-0D8EB5213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C3E-D820-41CB-838A-A1BB38F26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D70A-F710-4721-950C-662FE73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42C-034A-40C3-9DE2-13ABE2CC677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A4AB-F9BF-4872-88B5-8E93046C096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ago puede ser programado y a la hora que quiera la empr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roveedor podrá ver el detalle de las facturas, que se le esta pagando electrónicamente, en la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ueden emitirse cheques de CAJ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puede acreditar a una cuenta especific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INALIZA EL ROL DEL USUARIO OPERADOR, CONTINUA EL SUPERVISOR PARA VERIFICAR QUE TODO EL LOTE ESTA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7204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4114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733920" cy="495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33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66880"/>
            <a:ext cx="7620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INALIZA EL ROL DEL USUARIO SUPERVISOR, CONTINUA EL ENVIADOR  PARA EMITIR LOS CHEQUES EN BANCO Y ACREDITAR EN LAS CUENTAS RESP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17204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933640" cy="113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617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4267080"/>
            <a:ext cx="48006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172040" cy="2533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800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05320" y="190512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ANCO INDUSTRIAL, S.A.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EL FUTURO HOY PARA TODOS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954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FIN DE LA PRESENTAC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4495680" cy="14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0" y="1828800"/>
            <a:ext cx="1609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rchivo delimitado por comas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99 identificador de cheque de caja o voucher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éditos a números de cuen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662940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38920" y="1905120"/>
            <a:ext cx="23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21:33Z</dcterms:created>
  <dc:creator>OTTO GARRIDO</dc:creator>
  <dc:description/>
  <dc:language>en-US</dc:language>
  <cp:lastModifiedBy>ogarrido</cp:lastModifiedBy>
  <dcterms:modified xsi:type="dcterms:W3CDTF">2005-07-12T23:37:10Z</dcterms:modified>
  <cp:revision>8</cp:revision>
  <dc:subject/>
  <dc:title>PAGO DE PROVEEDORES BI-B@NKING</dc:title>
</cp:coreProperties>
</file>